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769D-E473-4F96-A56A-FC8029A21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7E13-B339-47C5-9421-D6E5B45D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3414-5DBF-41D9-A600-2963A3E57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6667-5D29-4CD6-B553-897067756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04AE-6582-4D12-BC43-DE9B73FF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E10E-4A9F-4BB5-882C-AF6A8F1D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C423-DEED-430A-BE51-770D42F4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A4BF-994E-4ACF-83B5-4B38B457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CD12-EEA5-4957-B15C-CF907FAA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2601-9E29-47B5-BA6C-EAB71E34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A416-1D4E-43A0-88CC-4BB455CE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363C-16DA-47EF-BEB0-2D9EBC14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969E-8EFB-41D2-BD78-F796317AE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eb.mit.edu/invent/iow/rubik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0" y="4800600"/>
            <a:ext cx="2133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t Hens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17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0mputer #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 rot="21285600">
            <a:off x="1142640" y="1142640"/>
            <a:ext cx="510552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0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Rubik's Cub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480" y="4800600"/>
            <a:ext cx="4114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etween The Bookshelve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eb. 27, 2012, www.freeplaymusic 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Safar"/>
          <p:cNvPicPr/>
          <p:nvPr/>
        </p:nvPicPr>
        <p:blipFill>
          <a:blip r:embed="rId1"/>
          <a:srcRect l="68609" t="0" r="0" b="-1771"/>
          <a:stretch/>
        </p:blipFill>
        <p:spPr>
          <a:xfrm rot="516000">
            <a:off x="2819160" y="22096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Safar"/>
          <p:cNvPicPr/>
          <p:nvPr/>
        </p:nvPicPr>
        <p:blipFill>
          <a:blip r:embed="rId2"/>
          <a:srcRect l="0" t="0" r="49302" b="0"/>
          <a:stretch/>
        </p:blipFill>
        <p:spPr>
          <a:xfrm rot="21114600">
            <a:off x="228600" y="228240"/>
            <a:ext cx="2743200" cy="1668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280" y="4724280"/>
            <a:ext cx="6629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ubik's Cube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b 23, 2012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rubik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81280" y="7621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ubik’s Cube is used in fields such as physics and group the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a5a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Rubik's Cu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possible alignments is in the multi mill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ere even books offering possible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1981 demand outgrew supply for the puzz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100 million had been sold around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ube is even used in fields such as physics and group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6c6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Erno Rub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o Rubik was born in Budapest in 19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father was an engineer and a glider desig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mother was a writer and an art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a teacher at the academy of Applied arts and Craf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patented the Rubik's cube in 1975 calling it the Magic Cu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4:41:16Z</dcterms:created>
  <dc:creator>install</dc:creator>
  <dc:description/>
  <dc:language>en-US</dc:language>
  <cp:lastModifiedBy>install</cp:lastModifiedBy>
  <dcterms:modified xsi:type="dcterms:W3CDTF">2012-03-09T15:00:43Z</dcterms:modified>
  <cp:revision>7</cp:revision>
  <dc:subject/>
  <dc:title>Slide 1</dc:title>
</cp:coreProperties>
</file>